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47B-E51C-4146-8C04-541E4515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281-1FC8-4145-8973-001EA6F0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A52-7B02-421A-8A6C-356A6D95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3AB-497E-4B6A-AA96-7EA4D9AA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9ED-9FEA-490D-951E-08A7D4C8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7EC-5999-47EA-82EB-EEF94C85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FA2-2592-47D8-B7B4-48AE7823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604-0FE9-4D8A-B5F9-EABF3DB1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B90-37DC-45F7-8F1B-6B867944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2F9-3D6F-4EA0-B983-9AE40274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D3A-113E-4609-86CB-1C065BDC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D50-5C47-44C0-A69E-870F593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EBCF-5FE8-4FC0-81C0-684095EF8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I got up early so I could enjoy a full game of football.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 need to warm a cup of milk and boil the pudding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ook, one of my eyes has a cut underneath it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You must put the pail of water and the pile of wood near the soil for the garden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at cookie is full of sugar,” said Uncle Gus in a playful voic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ast summer some boys and I took care of a bulldog and other animal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2:14:18Z</dcterms:created>
  <dc:creator>Jenny  Brandon</dc:creator>
  <dc:description/>
  <dc:language>en-US</dc:language>
  <cp:lastModifiedBy>teacher</cp:lastModifiedBy>
  <dcterms:modified xsi:type="dcterms:W3CDTF">2011-01-20T15:57:38Z</dcterms:modified>
  <cp:revision>2</cp:revision>
  <dc:subject/>
  <dc:title>I Like Where I Am</dc:title>
</cp:coreProperties>
</file>